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B6BA-1F31-44E0-90BA-533AFA63C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E9EE-9408-48F9-AFB4-FF8196D74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28E7-62F9-4313-8A12-0EF9B23AF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CC7F-F740-4EF7-81C9-0DFA3E6D4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A3766-4210-48C3-A3CD-2F7598925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7E364-52EF-4E7A-9F00-7F923C766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0159B-BC4C-423C-8F61-87E4479B4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52390-07E0-440F-8D96-BA3E961ED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7B17B-DAAA-4145-BF25-BB005EAA3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D0241-A7CF-4782-AF07-C04BAF66D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AB985-C5B8-4207-A97F-7BDCD7B8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B44F-D252-4E7E-96D4-E8922D170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7B703-6E0B-4C70-ABE5-8D39C781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87EE3-A302-4A2A-B37F-5F96B8BF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2A6CE-013C-41EA-A3AB-8762B477B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ED79D-616F-4C8A-9669-E62469DE4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0C92A-0827-4F39-9B4F-714CAD8A3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84DC-91CF-41C3-844F-8E77C3EB1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8AF2-C89D-4F16-AF26-EF372C43A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D70C-CFFD-451B-A935-29BF23428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471C-5106-4896-8035-76D381002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2137-6270-4D8C-BEBB-52CE6268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7142-9E26-414F-8AAB-664CBD6B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E1AD-7593-43D5-A02F-9D3E03EA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F49AB-49C1-491A-B177-A85DD0DE30A2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0C341-07D5-4090-B313-E07BAF2DF32D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ileg.sga.df.gov.br/sileg/legislacao/Distrital/Decretos/Decretos%202006/dec_26742_06.htm" TargetMode="External"/><Relationship Id="rId3" Type="http://schemas.openxmlformats.org/officeDocument/2006/relationships/hyperlink" Target="http://sileg.sga.df.gov.br/sileg/legislacao/Distrital/Decretos/Decretos%202006/dec_26742_06.htm" TargetMode="External"/><Relationship Id="rId4" Type="http://schemas.openxmlformats.org/officeDocument/2006/relationships/hyperlink" Target="http://sileg.sga.df.gov.br/sileg/legislacao/Distrital/Decretos/Decretos%202006/dec_26742_06.htm" TargetMode="External"/><Relationship Id="rId5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e5ffff"/>
                </a:solidFill>
                <a:latin typeface="Tahoma"/>
              </a:rPr>
              <a:t>EXPERIÊNCIA DO CRHDF NA REGULAMENTAÇÃO DE LEIS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129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ahoma"/>
              </a:rPr>
              <a:t>TRABALHO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ahoma"/>
              </a:rPr>
              <a:t>DA CTC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692000" y="1773360"/>
            <a:ext cx="7451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ahoma"/>
              </a:rPr>
              <a:t>Art. 2º São competências da Câmara Técnica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ahoma"/>
              </a:rPr>
              <a:t>I - propor e analisar mecanismos de fomento e estímulo ao desenvolvimento científico e tecnológico em matérias ligadas a recursos hídricos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ahoma"/>
              </a:rPr>
              <a:t>II - propor diretrizes gerais para capacitação técnica buscando a excelência na área de gestão de recursos hídricos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ahoma"/>
              </a:rPr>
              <a:t>III - propor ações, estudos e pesquisas, na área de recursos hídricos, visando a melhoria de tecnologias, equipamentos e métodos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ahoma"/>
              </a:rPr>
              <a:t>IV - propor e analisar mecanismos de difusão de experiências e conhecimento no conjunto da sociedade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ahoma"/>
              </a:rPr>
              <a:t>V – propor diretrizes para o aproveitamento das águas pluviais e o reúso dos recursos hídricos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ahoma"/>
              </a:rPr>
              <a:t>VI – propor diretrizes para gestão racional dos planos, projetos e obras de drenagem pluvial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ahoma"/>
              </a:rPr>
              <a:t>VII – propor diretrizes para proteção, conservação, economia e combate ao desperdício dos recursos hídricos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ahoma"/>
              </a:rPr>
              <a:t>VIII – analisar, estudar e emitir pareceres sobre assuntos afins; 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ahoma"/>
              </a:rPr>
              <a:t>IX - as competências constantes do Regimento Interno do CRH e outras que vierem a ser delegadas pelo seu Plenário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5ffff"/>
                </a:solidFill>
                <a:latin typeface="Tahoma"/>
              </a:rPr>
              <a:t>Membros da CTCT/CRHDF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94920" y="1052640"/>
            <a:ext cx="828036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69360" indent="-36936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 u="sng">
                <a:solidFill>
                  <a:srgbClr val="ffffff"/>
                </a:solidFill>
                <a:uFillTx/>
                <a:latin typeface="Tahoma"/>
              </a:rPr>
              <a:t>Secretaria de Estado de Meio Ambiente e Recursos Hídricos  - SEMARH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69360" indent="-36936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 u="sng">
                <a:solidFill>
                  <a:srgbClr val="ffffff"/>
                </a:solidFill>
                <a:uFillTx/>
                <a:latin typeface="Tahoma"/>
              </a:rPr>
              <a:t>Agência Reguladora de Águas e Saneamento do Distrito Federal – ADAS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69360" indent="-36936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 u="sng">
                <a:solidFill>
                  <a:srgbClr val="ffffff"/>
                </a:solidFill>
                <a:uFillTx/>
                <a:latin typeface="Tahoma"/>
              </a:rPr>
              <a:t>Companhia de Saneamento do Distrito Federal – CAESB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69360" indent="-36936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 u="sng">
                <a:solidFill>
                  <a:srgbClr val="ffffff"/>
                </a:solidFill>
                <a:uFillTx/>
                <a:latin typeface="Tahoma"/>
              </a:rPr>
              <a:t>Universidade de Brasília – UnB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69360" indent="-36936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 u="sng">
                <a:solidFill>
                  <a:srgbClr val="ffffff"/>
                </a:solidFill>
                <a:uFillTx/>
                <a:latin typeface="Tahoma"/>
              </a:rPr>
              <a:t>Empresa Brasileira de Pesquisa Agropecuária – EMBRAP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69360" indent="-36936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 u="sng">
                <a:solidFill>
                  <a:srgbClr val="ffffff"/>
                </a:solidFill>
                <a:uFillTx/>
                <a:latin typeface="Tahoma"/>
              </a:rPr>
              <a:t>Empresa de Assistência Técnica e Extensão Rural - EMATE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69360" indent="-36936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 u="sng">
                <a:solidFill>
                  <a:srgbClr val="ffffff"/>
                </a:solidFill>
                <a:uFillTx/>
                <a:latin typeface="Tahoma"/>
              </a:rPr>
              <a:t>Secretaria para o Desenvolvimento da Ciência e Tecnologia – SDC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69360" indent="-36936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 u="sng">
                <a:solidFill>
                  <a:srgbClr val="ffffff"/>
                </a:solidFill>
                <a:uFillTx/>
                <a:latin typeface="Tahoma"/>
              </a:rPr>
              <a:t>Associação Brasileira das Instituições de Pesquisas Tecnológicas – ABIPTI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e5ffff"/>
                </a:solidFill>
                <a:latin typeface="Tahoma"/>
              </a:rPr>
              <a:t>LEGISLAÇÃO DISTRITAL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21844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LEI Nº 2.616, DE 26 DE OUTUBRO DE 2000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Dispõe sobre a utilização de equipamentos que economizam água nas instalações hidráulicas e sanitárias dos edifícios públicos e privados destinados a uso não residencial no âmbito do Distrito Federal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8000" y="2852280"/>
            <a:ext cx="82803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Tahoma"/>
              </a:rPr>
              <a:t>LEI N° 2.977, DE 10 DE MAIO DE 2002</a:t>
            </a:r>
            <a:br>
              <a:rPr sz="1800"/>
            </a:br>
            <a:r>
              <a:rPr b="1" lang="pt-PT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Tahoma"/>
              </a:rPr>
              <a:t>Dispõe  sobre a instalação   de   equipamento    eliminador    de   ar    na tubulação do sistema de abastecimento  de águ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4076640"/>
            <a:ext cx="828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485280" indent="-4852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LEI Nº 2.978, DE 10 DE MAIO DE 20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85280" indent="-485280">
              <a:lnSpc>
                <a:spcPct val="100000"/>
              </a:lnSpc>
              <a:spcBef>
                <a:spcPts val="112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Dispõe sobre a obrigatoriedade de instalação de recarga artificial de aqüíferos nas propriedades rurais e lotes em condomínios atendidos por poços tubulares para abastecimento de águ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5373720"/>
            <a:ext cx="80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e5ffff"/>
                </a:solidFill>
                <a:latin typeface="Tahoma"/>
              </a:rPr>
              <a:t>LEGISLAÇÃO DISTRITAL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LEI Nº 2.978, DE 10 DE MAIO DE 200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Dispõe sobre a obrigatoriedade de instalação de recarga artificial de aqüíferos nas propriedades rurais e lotes em condomínios atendidos por poços tubulares para abastecimento de águ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11280" y="4724280"/>
            <a:ext cx="8075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LEI Nº 3.677, DE 13 DE OUTUBRO DE 2005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Dispõe sobre a obrigatoriedade da instalação de reservatórios de captação de água para as unidades habitacionais do Distrito Federal e dá outras providência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2708280"/>
            <a:ext cx="8064360" cy="18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90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LEI Nº 3.557, DE 18 DE JANEIRO DE 2005</a:t>
            </a:r>
            <a:br>
              <a:rPr sz="1800"/>
            </a:br>
            <a:r>
              <a:rPr b="1" lang="pt-PT" sz="1800" spc="-1" strike="noStrike">
                <a:solidFill>
                  <a:srgbClr val="ffffff"/>
                </a:solidFill>
                <a:latin typeface="Tahoma"/>
              </a:rPr>
              <a:t>(VIDE - </a:t>
            </a:r>
            <a:r>
              <a:rPr b="0" lang="pt-BR" sz="18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Decreto </a:t>
            </a:r>
            <a:r>
              <a:rPr b="0" lang="pt-BR" sz="18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nº</a:t>
            </a:r>
            <a:r>
              <a:rPr b="0" lang="pt-BR" sz="18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 26.742, de 20 de abril de 2006</a:t>
            </a: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Dispõe sobre a individualização de instalação de hidrômetro nas         edificações verticais residenciais e nas de uso misto e nos  condomínios residenciais do Distrito Federal, e dá outras providênc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e5ffff"/>
                </a:solidFill>
                <a:latin typeface="Tahoma"/>
              </a:rPr>
              <a:t>LEGISLAÇÃO DISTRITAL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2707920"/>
            <a:ext cx="80755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LEI Nº 3.793, DE 02 DE FEVEREIRO DE 2006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Institui, no Distrito Federal, o sistema de recarga artificial de aqüíferos e dá outras providências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6840" y="1268280"/>
            <a:ext cx="821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buClr>
                <a:srgbClr val="ffffff"/>
              </a:buClr>
              <a:buSzPct val="65000"/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LEI Nº 3.693, DE 08 DE NOVEMBRO DE 2005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Dispõe sobre a Política de Irrigação e Drenagem no âmbito do Distrito Federal e dá outras providências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Tahoma"/>
              </a:rPr>
              <a:t>Concedida liminar pelo TJDF para ADIN solicitada pelo GDF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3933720"/>
            <a:ext cx="7704000" cy="11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LEI Nº 3.812, DE 08 DE FEVEREIRO DE 20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Torna obrigatório o reaproveitamento da água utilizada nos postos de lavagem de veícul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530064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90000"/>
              <a:buFont typeface="Tahom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LEI Nº 3.835, DE 27 DE MARÇO DE 2006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cc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Dispõe sobre a pavimentação de estacionamentos no âmbito do Distrito Federal e dá outras providênc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5ffff"/>
                </a:solidFill>
                <a:latin typeface="Tahoma"/>
              </a:rPr>
              <a:t>LEGISLAÇÃO DISTRITA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ahom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ahoma"/>
              </a:rPr>
              <a:t>LEI Nº 3.835, DE 27 DE MARÇO DE 2006</a:t>
            </a:r>
            <a:br>
              <a:rPr sz="2000"/>
            </a:br>
            <a:r>
              <a:rPr b="1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1" lang="pt-BR" sz="2000" spc="-1" strike="noStrike">
                <a:solidFill>
                  <a:srgbClr val="ffffff"/>
                </a:solidFill>
                <a:latin typeface="Tahoma"/>
              </a:rPr>
              <a:t>Dispõe sobre a pavimentação de estacionamentos no âmbito do Distrito Federal e dá outras providênci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" y="3500280"/>
            <a:ext cx="8351640" cy="25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Art. 1º Todas as áreas abertas destinadas a estacionamentos, públicos e privados, no Distrito Federal, deverão utilizar pavimentação permeável.</a:t>
            </a:r>
            <a:br>
              <a:rPr sz="2400"/>
            </a:br>
            <a:br>
              <a:rPr sz="2400"/>
            </a:br>
            <a:r>
              <a:rPr b="1" lang="pt-BR" sz="2400" spc="-1" strike="noStrike">
                <a:solidFill>
                  <a:srgbClr val="ffcc00"/>
                </a:solidFill>
                <a:latin typeface="Tahoma"/>
              </a:rPr>
              <a:t>Não exige regulamentaçã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1" lang="pt-BR" sz="2400" spc="-1" strike="noStrike">
                <a:solidFill>
                  <a:srgbClr val="ffcc00"/>
                </a:solidFill>
                <a:latin typeface="Tahoma"/>
              </a:rPr>
              <a:t>Necessita algumas correçõ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5ffff"/>
                </a:solidFill>
                <a:latin typeface="Tahoma"/>
              </a:rPr>
              <a:t>LEGISLAÇÃO DISTRITA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35290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ffff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ahoma"/>
              </a:rPr>
              <a:t>LEI Nº 2.616, DE 26 DE OUTUBRO DE 2000 </a:t>
            </a:r>
            <a:r>
              <a:rPr b="1" lang="pt-BR" sz="1400" spc="-1" strike="noStrike">
                <a:solidFill>
                  <a:srgbClr val="ffffff"/>
                </a:solidFill>
                <a:latin typeface="Tahoma"/>
              </a:rPr>
              <a:t>Dispõe sobre a utilização de equipamentos que economizam água nas instalações hidráulicas e sanitárias dos edifícios públicos e privados destinados a uso não residencial no âmbito do Distrito Federal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cc00"/>
                </a:solidFill>
                <a:latin typeface="Tahoma"/>
              </a:rPr>
              <a:t>Elaborada minuta de Resoluçã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cc00"/>
                </a:solidFill>
                <a:latin typeface="Tahoma"/>
              </a:rPr>
              <a:t>Participação da Comissão Permanente de Monitoramento do Código de Edificações do DF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708360" y="1125360"/>
            <a:ext cx="5184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2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Art. 1° Torna-se obrigatório o uso de equipamentos que economizam água nas instalações hidráulicas e sanitárias dos edifícios públicos e privados destinados a uso não residencial no âmbito do Distrito Federal.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§ 2° Consideram-se equipamentos que economizam os produtos que visem ao uso racional da água, sejam eles dos tipos monocomando, termostato, temporizados ou eletrônicos, e que sejam, principalmente, componentes de lavatórios, mictórios, bacias sanitárias, demais itens do sistema de descarga e outros dispositivos como torneiras, chuveiros, misturadores e arejador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0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5ffff"/>
                </a:solidFill>
                <a:latin typeface="Tahoma"/>
              </a:rPr>
              <a:t>LEGISLAÇÃO DISTRITA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316872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LEI Nº 3.812, DE 08 DE FEVEREIRO DE 2006 que torna obrigatório o reaproveitamento da água utilizada nos postos de lavagem de veículo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Tahoma"/>
              </a:rPr>
              <a:t>Minuta elaborad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Tahoma"/>
              </a:rPr>
              <a:t>SINPETRO interess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3492360" y="1557360"/>
            <a:ext cx="540072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Tahoma"/>
              </a:rPr>
              <a:t>Art. 1º É obrigatória a instalação de filtros em todos os postos de lavagem de veículos para reutilização da água, preferencialmente, na limpeza de veículos.</a:t>
            </a:r>
            <a:br>
              <a:rPr sz="2200"/>
            </a:br>
            <a:br>
              <a:rPr sz="2200"/>
            </a:br>
            <a:r>
              <a:rPr b="1" lang="pt-BR" sz="2200" spc="-1" strike="noStrike">
                <a:solidFill>
                  <a:srgbClr val="ffffff"/>
                </a:solidFill>
                <a:latin typeface="Tahoma"/>
              </a:rPr>
              <a:t>Art. 2º Toda e qualquer adequação nos postos ficará a expensas dos respectivos proprietários.</a:t>
            </a:r>
            <a:br>
              <a:rPr sz="2200"/>
            </a:br>
            <a:br>
              <a:rPr sz="2200"/>
            </a:br>
            <a:r>
              <a:rPr b="1" lang="pt-BR" sz="2200" spc="-1" strike="noStrike">
                <a:solidFill>
                  <a:srgbClr val="ffffff"/>
                </a:solidFill>
                <a:latin typeface="Tahoma"/>
              </a:rPr>
              <a:t>Art. 3º A concessão ou renovação de alvará de funcionamento ficará condicionada ao cumprimento desta Lei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6T04:22:44Z</dcterms:created>
  <dc:creator>Paulo Ricardo</dc:creator>
  <dc:description/>
  <dc:language>en-US</dc:language>
  <cp:lastModifiedBy>Tereza Cristina Esmeraldo de Oliveira</cp:lastModifiedBy>
  <dcterms:modified xsi:type="dcterms:W3CDTF">2006-11-27T16:32:28Z</dcterms:modified>
  <cp:revision>5</cp:revision>
  <dc:subject/>
  <dc:title>EXPERIÊNCIA DO CRHDF NA REGULAMENTAÇÃO DE LEI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